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24CB-CBEF-498A-A078-1E843C7F8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 Causal dynamics of asthma in socioeconomically disadvantaged urban neighborh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D8FD-F848-4C48-A233-A58D6DE4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061-20A9-4A17-9A82-F31871CF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6E5-D95B-49A1-9EAC-AB60180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542-9AE9-4783-A869-719E54BC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954-A870-46E8-978E-DBA6C20B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CC9-13B0-4D43-86AF-5C9A1F92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848-614B-405A-A7CE-F9FC5821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D5B-4E46-4681-8B31-769F9A7C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344-FE8D-4B30-A023-786BF399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7A2-005E-46EA-B292-D010E134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9A7-9494-4147-9293-AA13080A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FB6-54D5-4512-B0F6-B5AE05EA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7C8-1B41-45F9-B166-149E698A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FBA7-BB3E-46CD-BD51-EDF955D60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026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0:48:54Z</dcterms:created>
  <dc:creator>Sara S Metcalf</dc:creator>
  <dc:description/>
  <dc:language>en-US</dc:language>
  <cp:lastModifiedBy>Mary Evelyn Northridge</cp:lastModifiedBy>
  <dcterms:modified xsi:type="dcterms:W3CDTF">2012-02-29T19:42:48Z</dcterms:modified>
  <cp:revision>4</cp:revision>
  <dc:subject/>
  <dc:title>Slide 1</dc:title>
</cp:coreProperties>
</file>