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9F3A-B84D-4DF9-AFB6-E79AC4635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 Causal dynamics of asthma in socioeconomically disadvantaged urban neighborh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3270-D1DB-4174-BBB7-61318BBC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9CD-E85D-4D33-94EC-11A1F7BD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F2C-153F-41E5-A2D0-F753AC9F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390-A72C-4F18-AB8F-EC2B55B0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40D-1B86-4593-BFEB-3A009479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3AC-9D06-48DD-9B97-C86A72C3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EF5-FA69-4A08-BD69-C1581156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DF0-62EB-4872-A7EE-5CB3E02E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FB7-3D8A-49CF-953E-CBD68B89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494-1792-42C8-8143-5F0E6374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71B-155E-4D6D-A52A-DB4D7F8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4B3-1617-43BB-AE51-4767082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DDD-6672-47EA-8279-A937DB79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FCAF-EC16-461C-86EA-C234D6F5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026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0:48:54Z</dcterms:created>
  <dc:creator>Sara S Metcalf</dc:creator>
  <dc:description/>
  <dc:language>en-US</dc:language>
  <cp:lastModifiedBy>Mary Evelyn Northridge</cp:lastModifiedBy>
  <dcterms:modified xsi:type="dcterms:W3CDTF">2012-02-29T19:42:48Z</dcterms:modified>
  <cp:revision>4</cp:revision>
  <dc:subject/>
  <dc:title>Slide 1</dc:title>
</cp:coreProperties>
</file>